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34A5-F6B5-41CD-B2A3-762BA7223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6374-DFB7-4D4A-A81F-AF2D6D2F1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B350-A95B-4B7A-AF19-870AB5346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928D-102F-46DF-9170-23480CA0F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1289-20FF-4665-8A48-1F3E5B7E1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288A-0872-4594-B492-41CBBBC4F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CF8E-B39F-4193-9D1B-B9FBC7D7E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CA8E-36C0-42EC-AF8E-2291E33B0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40C7-BFB2-4DA4-B81F-892CC9AFB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EDBA-4F77-422E-A1D1-A80A7CF6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7554-572D-4320-8722-4CB8C6B3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C94F-E67E-4844-A05B-9A1FCCAD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9428-9025-4B1F-AF1B-6F1270DD595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00200" y="2209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Photosynthesis &amp; Cellular Respir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2" name="Picture 6" descr="NA00881_"/>
          <p:cNvPicPr/>
          <p:nvPr/>
        </p:nvPicPr>
        <p:blipFill>
          <a:blip r:embed="rId1"/>
          <a:stretch/>
        </p:blipFill>
        <p:spPr>
          <a:xfrm>
            <a:off x="304920" y="1447920"/>
            <a:ext cx="4722840" cy="50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Describe Cellular Respir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What is the chemical equation for cellular respiration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How does cellular respiration benefit plants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Does cellular respiration obey the Law of Conservation of Energy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re photosynthesis and cellular respiration related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What is Photosynthesis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What is the equation for the chemical reaction of photosynthesis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How does Photosynthesis benefit the plants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What happens when the plant makes extra glucose?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What is the energy transfer in photosynthesis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Does photosynthesis obey the Law of Conservation of Energy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Why is this important to us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259092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33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What is Cellular Respiration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1T00:48:27Z</dcterms:created>
  <dc:creator>Mary Poarch</dc:creator>
  <dc:description/>
  <dc:language>en-US</dc:language>
  <cp:lastModifiedBy>BTSD</cp:lastModifiedBy>
  <dcterms:modified xsi:type="dcterms:W3CDTF">2011-03-08T16:21:17Z</dcterms:modified>
  <cp:revision>54</cp:revision>
  <dc:subject/>
  <dc:title>Photosynthesis &amp; Respiration</dc:title>
</cp:coreProperties>
</file>